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139-5098-4455-AE6B-B0075BD6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DA8-683B-4DB6-8436-67CDC33C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AC05B-8365-442B-9E74-34BFE0C2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6A1BE-7AC8-4A87-B9A1-DA4FDDFA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CFDD5-B676-4BC2-B3F6-652E9BFE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11797-FF1A-419F-B106-EABAF624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04BFE-23BF-4999-91E6-AAE8710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506FE-95C9-4D1C-B748-847B51FD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46164-668C-4C14-9596-BDC1B7D6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1CFF2-EBE3-497B-9009-A0C936BC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E130E-10EA-455C-B6EA-340DD4C2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9E4AD-3516-430A-8A57-8F74B031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D2A-8F9E-4595-8405-03FD902B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0A54F-A2EB-455C-8D75-D9FEB16B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2ED29-DE27-46AD-8FED-41ACA130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38C6A-0EAF-4F84-B5CD-85B57958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F9600-6493-461B-A5D8-3EA7FB45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4308D-AAA3-4EA1-AE06-AC4A128B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246B3-D3BF-4297-BB31-0D813462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B9522-4363-4118-83D7-C175C282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9C0BC-BB02-4206-9ADD-01230DD3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437F2-D9B4-4542-9EB5-12C6ADE6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814AC-65E5-494A-83F7-6DC14935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579-A436-4A26-958F-50B08254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02A2D-D3E5-42C4-BE2B-A18550C1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C4E64-90B3-4B18-96B8-1A536900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66230-E2A3-4CE5-A9B5-B15FA52D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382B5-F537-4D22-8AF9-8E80B454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E962C-235F-4DB9-AFF9-7031E242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953D7-86A4-4986-9D4B-A2A434FA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65667-55D1-4375-B43E-2EA7CDF8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FCF12-6115-4278-881F-822E6B0E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FE008-E37C-4B5D-8ED4-B6A141AA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CFC23-D075-49C5-83BF-4E791864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200A-E843-4A90-882C-0E852C8E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BAD9E-7C9A-44B9-A7C7-45AD03EE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87FDB-245C-4329-8717-1804D293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60612-F83F-4B53-8624-11F41C70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3545C-E1C4-48A6-8561-A9C656C8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9FE8A-F30B-41A7-8F71-DBBC6D35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685E6-C82F-400C-B8C4-E41A7025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83BEB-6194-4CC1-A1F0-E8A84011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DA81C-4E55-4260-944D-15B3BD28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40BF9-F1A0-48D7-BC03-3E16AAE0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2644C-5381-40C8-B8F5-D25A79B9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C3BC-82A5-42A8-AD30-E01D364F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DD363-D041-43D9-B973-85B7E9E8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BFE75-17C3-4CE7-9B4F-221973EB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30647-E401-4665-A2B5-45887187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754FA-6B17-4A5B-A93F-98F6A5F9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09E2D-FF38-4A41-9920-873ECCE5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BB19-FCF4-4DBC-A296-6A17AA7B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743B-DF1C-4F8E-9050-1864E66A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E591-0846-45AF-8A29-37BD735A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F9B6-4490-4E5D-ABB1-8B5E5792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1EA4-AB3C-4DA6-9CA7-634815C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0C5-86C7-4C8F-898C-95468A18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949D-ED5D-4985-A414-D2C01BFF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8626-DA81-43DC-86DC-5E9F2EF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6511-03BE-4165-91B8-F8296805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B9FF-BA5E-4564-838F-DD2FC9C0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516B-28BB-4956-B69F-BFAB4DBC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ADD9-7E1A-41C5-93BB-A0AECF47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0BCC-B46A-4F7F-97BB-907C91D9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111B-81C5-4528-B1F6-9E84844D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B833-616F-42E1-866E-3354FC8A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6725-916E-4D37-8C2D-08C4B664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CBC-DE9F-4DD8-B73E-17C1B7E6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00C6-6223-4D8B-B142-CA1B93FB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1AD4C-86AE-4C77-BAE7-A48EA37A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1CEB-1703-4E9E-B6E3-3E80974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D508-7EA7-4193-99A2-AEA7EFE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C58D-D15F-45C9-AF9F-8DE31D4E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C54B-1367-4CD7-82F8-6D3F7629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1009-DF58-44E1-B06F-D06E084B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677D0-9F95-48F5-BB60-CCF9737A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A96E-9765-4D6F-8205-B5400E7A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F76E-F333-454C-9EE6-7511544B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B36-AC2B-4CD8-9401-9372F047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63C9-66BD-4050-8FA2-67662BAB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E61A3-6BE5-48A7-8508-EFDF8917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DECC-8932-4550-ACE1-CAB9A8CE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A7867-74B1-44FB-B1BD-748EBAC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8F7F-1EC3-4806-A33B-C54C5F52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EF26-85B8-461E-BB2F-A80EC8A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D577-CF84-4D81-BE82-29A8712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2D93-D791-47DA-A295-40D43C17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2167-0030-42F2-BC65-5E8A164E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47052-F36E-4473-B646-11EECD88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E3C-27E8-457E-90FB-38DD8006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357C4-FB43-46F5-9411-AAA8028D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EAD93-57ED-45FB-814D-72C706C8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EE1E-77FF-4C44-B3A9-B7F0DB4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86D3-5757-4007-84F5-83319D52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2AB9F-DC53-40D6-8852-ECC43A75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182EF-06DC-44DB-ADEF-E9FAFA09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898B5-0B02-4EF8-ADD8-58EEF8EA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9AC5D-3BE9-409F-95BA-E932812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FCEA-007F-450D-9E36-A6649117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250CD-EC68-45C0-B7CA-C814B072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013-BA29-4C60-A719-26016284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29A33-A647-4946-ABA0-57928603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342DD-DC4F-4E99-B6FC-B9807945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3CB0D-F4DE-4A3D-B5DD-3A550122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BE7D3-C220-49D5-BCE2-895F5E1E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DE759-7F24-4524-9161-430C2F5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67DD3-FCC0-46FC-BDC7-B00E9517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43BDC-0B3B-4749-ADC2-F2BBFCCF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89F47-030E-4D0B-86C2-06711B74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6F18F-4195-4D2D-B9CC-0AE7891F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B997D-765B-42E1-8CD9-702D0D24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69E-4E01-48EA-991A-9DCCB093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6BF10-30EE-41AD-B3F4-E7265870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F95E0-5F2D-45CE-A9EC-E2B9D7FC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5177C-727E-43C1-A0D5-33CA7AE7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60EEB-F157-44A9-A6E6-54E2C592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AEDC-30D4-4E80-B694-EF17DE9D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01020-0DD3-49FB-8F0A-43CFC3B6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81547-33C3-4015-910E-D0E32102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055EA-07BA-4301-95D5-4308179A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7BCD8-0FC3-48B8-BB2E-A69C695F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D1906-C64B-4A22-9D23-3550B1C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6CA-5745-4C33-8C9C-ABFE917A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0C25C-C44B-4F26-83AF-3CB20D02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8F290-F02F-4492-B9E5-3DB1480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CC28-9C23-4B4B-B1C0-B606BD35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CF92E-0708-46D0-8A3A-BA479C54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27FC-8E84-49CE-A8B1-D50CF353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B1F1F-E1FE-452E-BEE6-05F42838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A6705-7D4D-454B-B244-90E1C5BF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92242-426D-4CFC-AF10-E2DB9F09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9A65F-B49E-44A1-8F0A-4D3AB6C9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77C02-77DC-44BB-B805-CCA3B83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61C-2D89-4915-9783-AF53788C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95C09-5543-4A80-9A96-EF1FDD63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FE26F-148D-45B3-89B0-91620F13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D335B-6630-4BF9-8505-9499379A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178B6-1810-4E7A-8CC9-5CCCE5D1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53741-79AD-4F12-8359-20DD32A4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AC94A-81C6-46A2-8656-1414FC5C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2CCEE-0FB2-4BFE-B21E-56B58931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79B87-6C30-4ABE-870D-4363EF04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32895-487F-427C-A9A4-5CB536D0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A88A4-6168-408D-BB6D-993416D9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52C2-574D-4B26-BD90-DEF37635A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177B-1383-4647-AA80-3FBAFFB8E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2CE1-C23C-411B-AC80-3A1E72072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D69A-4978-4FBB-8892-8235AB3B2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88AA-A199-4543-BAA5-51F4B63BD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0282-7B25-4D8C-98C0-0A05B7F54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0934-8AB4-44BD-915A-6CAC0D003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4543-2E37-4DD8-A824-EEE4798F3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8623-866E-4DCD-9E0E-86393AAC39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9A1-CF2D-4F7B-B7F4-4F3304784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BA9D-2717-4262-883C-D490259A15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55F8-8A3F-454D-9DAB-B92279D5D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SECTION 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BY SAHANA POTTI, SARAH WEINBERG, SLOANE O’REIL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13 States of Matt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oiling Poin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mp. vapor pressure liquid= external atmospheric pressur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ate increase as heat increases which allows more particles at the surface to overcome attractive forces and stay a liquid. The remaining particles  absorb energ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a liquid is heated to a temperature at which particles throughout the liquid have enough energy to vaporize, the liquid begins to boi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a Leve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ssure at sea level when the surface water is at 70˚ Celsius, is greater then the vapor pressure and it does not boi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por pressure= atmospheric pressure boi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one rises in altitude, the temperate of the boiling point decreases because the atmospheric pressure is low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236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BOILING POINT AND PRESSURE CHANGES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http://www.eoearth.org/files/190401_190500/190456/VaporPressureChart.png"/>
          <p:cNvPicPr/>
          <p:nvPr/>
        </p:nvPicPr>
        <p:blipFill>
          <a:blip r:embed="rId1"/>
          <a:stretch/>
        </p:blipFill>
        <p:spPr>
          <a:xfrm>
            <a:off x="3657600" y="457200"/>
            <a:ext cx="426708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inetic Ener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t increa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rticles w/ the highest kinetic energy escap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heat goes up the liquid boils faster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bjective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rometer- instrument to measure biometric pressur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nometer- instrument used to measure the pressure of liqui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particles get enough kinetic energy to vaporiz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bjec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oiling point- vapor pressure= atmospheric press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por pressure- force exerted by a gas above liquid temperature- as it increases the liquid boils fast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rmal boiling point- point when a liquid is at a pressure of 101.3 kP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3:31:38Z</dcterms:created>
  <dc:creator>14spotti</dc:creator>
  <dc:description/>
  <dc:language>en-US</dc:language>
  <cp:lastModifiedBy>14spotti</cp:lastModifiedBy>
  <dcterms:modified xsi:type="dcterms:W3CDTF">2012-04-26T14:10:12Z</dcterms:modified>
  <cp:revision>6</cp:revision>
  <dc:subject/>
  <dc:title>Chapter 13 States of Matter</dc:title>
</cp:coreProperties>
</file>